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DE3-D63C-440D-93DE-632FF7DA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457-9307-495F-A5DF-42886186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2DA-417E-4421-AF21-03908EBF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D40-E2F4-48AA-A75F-A68F6A0C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8CF2-5848-435B-B13C-DCFD9033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F6E-BCEC-4BA2-89CB-45676565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4D0F-3EF2-44D7-B8BC-18369CF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6867-ACBC-47BC-AFE2-C878785B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9F2-2E80-474A-8EE5-9458B6A4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A735-FE5E-4A4B-83D4-91BAFE4F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D12E-1637-4C8C-A983-663E00C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C87-032B-441C-AFC9-81A41C8D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3CD7-9AB2-4618-B33C-896901C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CCB-DCC8-43FC-A671-4DEF2C8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0A7-4963-4B3D-BB7F-024A0B32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7064-88FA-4D8A-A7FD-D0B6FCE9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0F1-5EA2-4C14-91FE-1B9E1E67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428-C8B2-46F7-B29E-2F8EA1F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64-A3FC-41AB-A818-F4ADAA8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A97-BBBD-456F-9256-50A0DE3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C4E-85CE-4532-AFF9-562280E8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374-C58C-4A2E-8A36-FE25292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7FA-57B9-46FA-A845-1AC7E1B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8BE-E933-463C-B76B-FD120C2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7CDE-144F-4D00-88DF-F8EEADC120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91E-693F-498C-94C5-4402C6CC041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00"/>
                            </p:stCondLst>
                            <p:childTnLst>
                              <p:par>
                                <p:cTn id="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700"/>
                            </p:stCondLst>
                            <p:childTnLst>
                              <p:par>
                                <p:cTn id="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00"/>
                            </p:stCondLst>
                            <p:childTnLst>
                              <p:par>
                                <p:cTn id="7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700"/>
                            </p:stCondLst>
                            <p:childTnLst>
                              <p:par>
                                <p:cTn id="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700"/>
                            </p:stCondLst>
                            <p:childTnLst>
                              <p:par>
                                <p:cTn id="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